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4A0-7056-440F-B62B-5CB03F85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617-FFDC-40EF-88C5-6C5B6C00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90E-E3A2-400F-B35F-331C1A0B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1C5A-2539-44D9-A70F-54166166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4346-C95E-43CE-9904-B6032796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5D16-2B61-448C-8328-A0013EA9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3DF2-0B32-4C42-8D7A-8DED2B9A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AD4A-A4F4-4999-BEC1-BDC1BB0D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8267-EBB0-44F8-A366-BB0880E9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3F0-EBC8-45BD-92B2-22070564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403A-7BEC-4213-9854-925A4C8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341-0E21-4605-8D47-EABF3328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A629-74D9-4E09-AC9A-1F64F6F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7AD-FF3C-45C0-8BEB-B5A01F2B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0B49-AB14-45AF-B11E-5D645BB9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C5D6-4026-4A32-879F-A8475E9A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2220-DB96-454E-9601-DD473A4B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97F-62FE-40CF-90E9-D65EBA5F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0A27-AF7E-4E65-9B30-00902E69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87F-7D0F-4C14-8948-1BEA55C1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0F2-B6E9-4236-AF65-CDBF21D8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518-AD5B-4F56-899C-5857671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9D6-0B30-445C-ADE9-5E73DC0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71A-3A97-4A46-8ACB-DF64936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FEEE-C792-4E5E-B46D-5AB4D0F01E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3A50-CFBC-4659-8828-C9D34C7FED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8868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Decision-Oriented Evaluation Approaches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28800" y="4038120"/>
            <a:ext cx="541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, Emily, Jen &amp; Ma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is the Personal Factor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rding to Patton it i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of “one or more stakeholders who care about the evaluation and are in a position to use it” (p 17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e of an identifiable individual or group of people who personally care about the valuation and the findings it generates” (p 17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element of Utilization-Focused Evaluation (U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are the key factors of UF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Identify the intended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interest in th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power in program to be evalu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ly – both would be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nterest is more important tha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are the key factors of UF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  Involving primary users in the conduct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o identify focus of study, how to use info obtained, design of study, and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191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s they have a thorough understanding of the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  Involve primary users in interpreting results and making decisions about judgments, recommendations, and disse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Advantages of Decision-Oriented Evalu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est and still frequently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being written about and used as guides to design individual evaluations or evaluation 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various me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s of development, personal factor, consider ongoing information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formation that helps people make deci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isadvantages of Decision-Oriented Evalu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cus on deci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end to neglect stakeholders with less pow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 not address social equity and equa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cus on managers and their information nee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or can become the manager’s “hired gu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ccasionally, the evaluator can not respond to critical issues if they do not match the issues of the decision mak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ssume that the important decisions and information to make them can be clearly defined in advance and the program will remain stable while the evaluation is conduc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are the strengths and limitations of individual approaches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2666880"/>
          <a:ext cx="8229600" cy="361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akn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 standing pr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ps people make decisions quick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sion-making is left to one per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66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er to get stakeholders to buy-in because they do not play a part in the 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y did decision-oriented  evaluation approaches emerg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-oriented evaluations emerged in the 1970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 fact that the evaluations were being ignored and had no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ors wanted to help people who make decisions actual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IPP Progra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PP Program is the concept Mr. Stuffle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staying evaluation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’s most important purpose is not to prove but to improve” pg. 1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Values - ideals held by a society that must be taken into consideration pg. 1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. I. P. P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- Context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at is the desired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- Input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are you going to implement the prog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- Process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ow can you improve/modify the pro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 - Product Evalu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d it work?  Wha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PP uses both formative and summative eval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080" y="6091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br>
              <a:rPr sz="4000"/>
            </a:br>
            <a:r>
              <a:rPr b="0" lang="en-US" sz="2200" spc="-1" strike="noStrike">
                <a:solidFill>
                  <a:srgbClr val="420000"/>
                </a:solidFill>
                <a:latin typeface="Times New Roman"/>
              </a:rPr>
              <a:t>(p. 174-176)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ing th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major levels of decision ma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level, project the decision situations to be served and describe each one in terms of locus, focus, criticality, timing, and composition of altern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criteria for each decision situation by identifying variables to aide in judging alterna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policies the evaluator must operate with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s and methods of collec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and schedule for collect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 a format for the collected inform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signate a means for performing the analys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76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the analytical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ate a means for performing the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ing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aud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means for providing th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the for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 re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Developmental Stages of a Progra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of the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the evaluation sched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taff and resource requirements and plans for meeting those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 potential for providing information that is valid, reliable, credible, timely, and pervas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and schedule the means for periodic upd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budg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ow can decision-oriented evaluation help at each stag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2248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ges are advantageous to the user because it forces 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ors must think of evaluation as cyclic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formative assessment in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0:26:23Z</dcterms:created>
  <dc:creator>West Shore  School District</dc:creator>
  <dc:description/>
  <dc:language>en-US</dc:language>
  <cp:lastModifiedBy>Elementary/Secondary Schools</cp:lastModifiedBy>
  <dcterms:modified xsi:type="dcterms:W3CDTF">2011-02-15T18:10:14Z</dcterms:modified>
  <cp:revision>16</cp:revision>
  <dc:subject/>
  <dc:title>Slides for Marie!!</dc:title>
</cp:coreProperties>
</file>